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0B26-022F-4DAB-8FC9-81C01719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F12-08BB-4A0C-905F-C00DE277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59C5-A525-4D62-B0CC-853BBECF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76D7-FBDA-4459-BEA7-F14FD1F7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6F90-2A54-4305-8E37-F5D33299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8756-FF63-43FC-875E-2D6B9E35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D9B7-F0C9-4289-A9BF-9340D74E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22DB-4F7E-448D-AFFB-156BAC25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B6E9-BAED-4176-9A39-BC0314B9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C8F6-BE71-4123-96EB-2A5E59C0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EBE3-C33F-4214-B816-CED35741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8EE-11C4-46FD-BD1B-00845E57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2FA3-9AA9-4628-AEF0-19B6168E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9249-6FEB-415C-A9C1-093ECD31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9F2C-D2D6-4F93-AF0C-96F3B9EC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D35F-1EE4-4F66-B78A-4084B27B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6B76-9B0B-4EC7-A406-22A3CD0D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641-FE28-4AA3-8CFC-B6F1C3BA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9AA-C84B-4492-A384-1B2CD645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7A1E-1BE0-4BAB-AD9B-389C0477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FF0-B3C9-48BE-8FAE-A2D24BAA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9BC-3579-40CB-BF6B-765B3C02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20A-D02A-4EDC-B3CC-C20C3BB4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4EE4-D147-43E8-B34B-C787BB2A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8464-2EFF-4116-B762-09603CEED8ED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51BA-67C2-4CED-B95E-394101A7083C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healthy.net/asp/Ads.asp?Ad=821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fetyprograms.org/images/FA-462.gif&amp;imgrefurl=http://www.safetyprograms.org/fasurvival.html&amp;h=318&amp;w=400&amp;sz=30&amp;tbnid=Kv61i2HDp00J:&amp;tbnh=95&amp;tbnw=119&amp;start=150&amp;prev=/images%3Fq%3Dfirst%2Baid%26start%3D140%26hl%3Dzh-CN%26lr%3D%26ie%3DUTF-8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jwrworkings.com/first%2520aid%25202.jpg&amp;imgrefurl=http://www.jwrworkings.com/minerescue.html&amp;h=444&amp;w=576&amp;sz=25&amp;tbnid=blPHrDl0EWkJ:&amp;tbnh=101&amp;tbnw=131&amp;start=5&amp;prev=/images%3Fq%3Dfirst%2Baid%26hl%3Dzh-CN%26lr%3D%26ie%3DUTF-8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omic Sans MS"/>
              </a:rPr>
              <a:t>DEALING WITH COMMON INJURI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9" name="First%20Aid%20CD" descr=""/>
          <p:cNvPicPr/>
          <p:nvPr/>
        </p:nvPicPr>
        <p:blipFill>
          <a:blip r:embed="rId1"/>
          <a:srcRect l="19904" t="19067" r="7909" b="32039"/>
          <a:stretch/>
        </p:blipFill>
        <p:spPr>
          <a:xfrm>
            <a:off x="2514600" y="1905120"/>
            <a:ext cx="5257800" cy="4343400"/>
          </a:xfrm>
          <a:prstGeom prst="rect">
            <a:avLst/>
          </a:prstGeom>
          <a:ln w="0">
            <a:noFill/>
          </a:ln>
        </p:spPr>
      </p:pic>
      <p:pic>
        <p:nvPicPr>
          <p:cNvPr id="210" name="PH_Lark_120x600" descr="Susan">
            <a:hlinkClick r:id="rId2"/>
          </p:cNvPr>
          <p:cNvPicPr/>
          <p:nvPr/>
        </p:nvPicPr>
        <p:blipFill>
          <a:blip r:embed="rId3"/>
          <a:srcRect l="0" t="0" r="0" b="75559"/>
          <a:stretch/>
        </p:blipFill>
        <p:spPr>
          <a:xfrm>
            <a:off x="228600" y="2286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211" name="53010Ml" descr=""/>
          <p:cNvPicPr/>
          <p:nvPr/>
        </p:nvPicPr>
        <p:blipFill>
          <a:blip r:embed="rId4"/>
          <a:stretch/>
        </p:blipFill>
        <p:spPr>
          <a:xfrm>
            <a:off x="5029200" y="1981080"/>
            <a:ext cx="3238560" cy="2373480"/>
          </a:xfrm>
          <a:prstGeom prst="rect">
            <a:avLst/>
          </a:prstGeom>
          <a:ln w="0">
            <a:noFill/>
          </a:ln>
        </p:spPr>
      </p:pic>
      <p:pic>
        <p:nvPicPr>
          <p:cNvPr id="212" name="2001%20first%20aid%20Sarah%20S_jpg_jpg" descr=""/>
          <p:cNvPicPr/>
          <p:nvPr/>
        </p:nvPicPr>
        <p:blipFill>
          <a:blip r:embed="rId5"/>
          <a:srcRect l="0" t="0" r="27147" b="0"/>
          <a:stretch/>
        </p:blipFill>
        <p:spPr>
          <a:xfrm>
            <a:off x="1219320" y="3733920"/>
            <a:ext cx="19810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304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WRIT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9907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rite a paragraph in which you tell your friend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give first aid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 Choose one of the accidents from the reading reading passage or from daily lif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97180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124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accid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4114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(basic step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257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ips to rememb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3352680"/>
            <a:ext cx="335268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/Then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36576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  <a:ea typeface="GungsuhChe"/>
              </a:rPr>
              <a:t>Task 2   Making a first-aid kit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523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well-stocked first-aid kit, kept in easy reach, is necessary in every home. It should includ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85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first-aid kit is a box or bag of useful items and information that may be helpful 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in case of emergency</a:t>
            </a: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6360" y="2387520"/>
            <a:ext cx="21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band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733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soap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3733920"/>
            <a:ext cx="24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sharp scisso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9960" y="3048120"/>
            <a:ext cx="28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thermomet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7360" y="4495680"/>
            <a:ext cx="48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plastic gloves (at least 2 pair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3048120"/>
            <a:ext cx="17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flashligh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2387520"/>
            <a:ext cx="13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5257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your list of emergency phone numb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6019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delux-first-aid-kit" descr=""/>
          <p:cNvPicPr/>
          <p:nvPr/>
        </p:nvPicPr>
        <p:blipFill>
          <a:blip r:embed="rId1"/>
          <a:srcRect l="9999" t="0" r="7498" b="0"/>
          <a:stretch/>
        </p:blipFill>
        <p:spPr>
          <a:xfrm>
            <a:off x="6337440" y="2286000"/>
            <a:ext cx="257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685800"/>
            <a:ext cx="86104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nslation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如果我们在家发现有人胳膊严重被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切伤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或砍伤怎  么办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首先我们必须尽量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止住血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，然后为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找医生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不能抬起或动他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我们必须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小孩子误食毒药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你作为家长，应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确保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电线食安全的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丧失知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，我们该马上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叫救护车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吗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49280" y="7632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800600"/>
            <a:ext cx="21225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9200" y="2286000"/>
            <a:ext cx="64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www.healthy.net/clinic/firstaid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5335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f you want more tips about first aids and ways to deal with common injuries, refer to the following websit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25560" y="335268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kidshealth.org/parent/firstaid_safe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26280" y="42670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mi.essortment.com/firstaid_rfrg.ht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4480" y="5410080"/>
            <a:ext cx="79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http://www.emedicinehealth.com/articles/25936-7.as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What are common injuries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523880"/>
            <a:ext cx="84582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Common injuries are accidents that easily happen at home. We may not be able to prevent them from happening, but everyone should know what to do if an accident happens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GungsuhChe"/>
                <a:ea typeface="GungsuhChe"/>
                <a:hlinkClick r:id="rId1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0763713228" descr=""/>
          <p:cNvPicPr/>
          <p:nvPr/>
        </p:nvPicPr>
        <p:blipFill>
          <a:blip r:embed="rId2"/>
          <a:srcRect l="7616" t="63636" r="50268" b="12282"/>
          <a:stretch/>
        </p:blipFill>
        <p:spPr>
          <a:xfrm>
            <a:off x="533520" y="480060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40384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217" name="images" descr="">
            <a:hlinkClick r:id="rId5"/>
          </p:cNvPr>
          <p:cNvPicPr/>
          <p:nvPr/>
        </p:nvPicPr>
        <p:blipFill>
          <a:blip r:embed="rId6"/>
          <a:srcRect l="0" t="0" r="0" b="20842"/>
          <a:stretch/>
        </p:blipFill>
        <p:spPr>
          <a:xfrm>
            <a:off x="5638680" y="3657600"/>
            <a:ext cx="271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Scanning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990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many kinds of common injuries are mentioned in this passage?                       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0080" y="304812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17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2240" y="1981080"/>
            <a:ext cx="63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Do you know their Chinese meaning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</a:rPr>
              <a:t>Task 1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990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You are a doctor ,tell your classmate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eal with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 these 4 common injur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477120" y="52578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81" h="21600">
                <a:moveTo>
                  <a:pt x="22684" y="3794"/>
                </a:moveTo>
                <a:lnTo>
                  <a:pt x="36697" y="10800"/>
                </a:lnTo>
                <a:lnTo>
                  <a:pt x="2268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251460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Now please finish the following t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img_collage" descr=""/>
          <p:cNvPicPr/>
          <p:nvPr/>
        </p:nvPicPr>
        <p:blipFill>
          <a:blip r:embed="rId1"/>
          <a:srcRect l="33662" t="0" r="44525" b="0"/>
          <a:stretch/>
        </p:blipFill>
        <p:spPr>
          <a:xfrm>
            <a:off x="2362320" y="3505320"/>
            <a:ext cx="1644480" cy="1676160"/>
          </a:xfrm>
          <a:prstGeom prst="rect">
            <a:avLst/>
          </a:prstGeom>
          <a:ln w="0">
            <a:noFill/>
          </a:ln>
        </p:spPr>
      </p:pic>
      <p:pic>
        <p:nvPicPr>
          <p:cNvPr id="231" name="img_collage" descr=""/>
          <p:cNvPicPr/>
          <p:nvPr/>
        </p:nvPicPr>
        <p:blipFill>
          <a:blip r:embed="rId2"/>
          <a:srcRect l="77305" t="0" r="2887" b="0"/>
          <a:stretch/>
        </p:blipFill>
        <p:spPr>
          <a:xfrm>
            <a:off x="3962520" y="2743200"/>
            <a:ext cx="1676160" cy="1882800"/>
          </a:xfrm>
          <a:prstGeom prst="rect">
            <a:avLst/>
          </a:prstGeom>
          <a:ln w="0">
            <a:noFill/>
          </a:ln>
        </p:spPr>
      </p:pic>
      <p:pic>
        <p:nvPicPr>
          <p:cNvPr id="232" name="img_collage" descr=""/>
          <p:cNvPicPr/>
          <p:nvPr/>
        </p:nvPicPr>
        <p:blipFill>
          <a:blip r:embed="rId3"/>
          <a:srcRect l="0" t="0" r="81307" b="0"/>
          <a:stretch/>
        </p:blipFill>
        <p:spPr>
          <a:xfrm>
            <a:off x="709560" y="4038480"/>
            <a:ext cx="1665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38280" y="-76320"/>
            <a:ext cx="3200400" cy="83844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76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765000"/>
            <a:ext cx="228600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66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1628640"/>
            <a:ext cx="360360" cy="648000"/>
          </a:xfrm>
          <a:prstGeom prst="downArrow">
            <a:avLst>
              <a:gd name="adj1" fmla="val 50000"/>
              <a:gd name="adj2" fmla="val 4495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349360"/>
            <a:ext cx="226836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2349360"/>
            <a:ext cx="21607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349360"/>
            <a:ext cx="223200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349360"/>
            <a:ext cx="248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cold running wat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doctor as soon as poss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349360"/>
            <a:ext cx="230328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ol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sk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under the cold ta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bandag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/ clean clot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 doctor if necess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2276640"/>
            <a:ext cx="2448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cu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ry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with a piece of dry clean clot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op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93080" y="2349360"/>
            <a:ext cx="20509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5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4360" y="907920"/>
            <a:ext cx="17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20000" y="2349360"/>
            <a:ext cx="2124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Get him or her 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reath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&amp;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pit out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ll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ambul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earch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y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372360" y="2349360"/>
            <a:ext cx="2233440" cy="33847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60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Verdana"/>
              </a:rPr>
              <a:t>APPLICATION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9144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should you do in the following situation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447920"/>
            <a:ext cx="59403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1 Your little brother  i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itten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by a big do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2 Your mother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urned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erself while she was cooking for you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3 You found your classmate with a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knife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n his le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4.You found a person who    ha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stopped breathing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5. You found a girl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nconscious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on the beach of the park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852640"/>
            <a:ext cx="288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hir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28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Other 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How to deal with nose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75248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y cal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the through the mouth, not the no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t up and bend the head slightly forwar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n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nostril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鼻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ut using a thumb and forefing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it out any blood that collects in the mout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images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133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1523880"/>
            <a:ext cx="89154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ol the burnt area with clean towels dippe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 in a cool, quiet room. Find a comfortable posi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ink plenty of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 sunglasses on and cover sunburned skin when you go in the sun again so you don't get burned mo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Sunbur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6" name="images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914400"/>
            <a:ext cx="617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990720"/>
            <a:ext cx="857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h your hand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ist a piece of tissu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isten the tip with tap water, and gently try to touch it with the tip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foreign object is under the upper l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眼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 down and pull the upper lid away from the eyeball by gently grabbing the eyelash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睫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ot ru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y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tly wash the eye with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040" y="304920"/>
            <a:ext cx="695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To remove a foreign object </a:t>
            </a:r>
            <a:r>
              <a:rPr b="0" lang="zh-CN" sz="2800" spc="-1" strike="noStrike" u="sng">
                <a:solidFill>
                  <a:srgbClr val="40458c"/>
                </a:solidFill>
                <a:uFillTx/>
                <a:latin typeface="Arial"/>
              </a:rPr>
              <a:t>异物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in the ey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7:24:41Z</dcterms:modified>
  <cp:revision>7</cp:revision>
  <dc:subject/>
  <dc:title>PowerPoint Presentation</dc:title>
</cp:coreProperties>
</file>